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A8A-BEE3-469B-A92F-69B74162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A5A-62FB-4D3B-84F8-400F20C9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DA8-467D-4934-BF79-ECB11A8A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926-29F9-4494-A38F-98A1C0DA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031D-2BAA-4DC3-BDED-0980B733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2B87-7704-4528-B7B7-1A345CED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1726-0AA4-4263-A989-F94CDC79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E319-A05D-475D-9CB1-5677770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DE78-8AB9-404E-A8F9-F1C6EDD9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ECED-74B0-4ED3-BAB9-95A01CE8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04EF-0737-49E0-88D0-5E0BCD5D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270-72D8-4335-8AED-636F58E4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5615-180B-4EA0-A71B-41F209E3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ADC7-B89F-4DF9-8119-241357D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935C-0223-46EC-9364-CC027AA8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AD99-3F9F-44F7-A6B8-FC345B29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4952-5136-423D-9460-A4B64789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5B0F-F0F0-4921-BE29-95F49CB3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7C49-93EA-40E5-9FD9-794541A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A0D89-F358-4FB4-80B7-C253D8A4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D793-3114-47B6-B57C-D78C97E5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C2B2-A122-4EED-85E0-04384D93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DDF-9137-499A-904F-3D30DE91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E22F-4A38-4D09-9041-57C84114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9A550-B340-41CF-B827-071E9EFA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9396-5247-455B-9DC0-6C653372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EAF5-A17F-4114-BD17-202DB63A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1329-8625-42B0-A75D-1B0A8C4E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6343-2E07-42E5-B0BF-00E9289F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8EB4-337F-40BF-AF94-E8BB8730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B2F9-50B2-47CE-9C55-40D50665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0978-84B6-42AB-85EA-1ED7D804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391DC-154F-4911-9140-9DCDA662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A7E-A3B3-47E5-A68D-DD8B97F9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8FF6-17A8-410B-8361-A2F547AD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79490-51D5-40BE-BB8E-C43CDA6D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D4E6-8879-4FB6-A695-AA997D0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9D76-5E30-4291-AE08-29900515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92D8-776C-47D7-A739-3990F5F1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38D2C-96AC-476B-94F8-2104859A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6D38-BDB9-4CAB-BBAC-CE8B59B5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2F36-89C2-4290-91B6-D54A6793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D573-DBFB-4260-86DF-17658632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646D-4A72-47CF-ADA2-1EBA0C5F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B3F-9534-4FCC-B3D2-FDBAB7E5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2B1D4-B719-4959-B459-A1D6EDE7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CD43D-D5B6-4B38-B1EF-B0D2E8F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2FA4A-E617-428C-AF98-1041AD6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0F87-96BB-4A5F-866C-8BA387F4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7095C-9AAB-49A9-939B-B78768E1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D425A-1F0A-43B2-9026-39C3DA50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66D6-83FA-41E4-A757-A31A076D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21B8A-4B86-4F5F-A11A-CA4DAE2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899CA-3B9E-45C3-A6B1-B7BEC75E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2C5BA-8F35-4660-9EEC-B88CBA77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2DD-4149-47AF-AA03-7E109BC8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F04E6-05D0-42A8-8317-0533D9A0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A1250-6CA1-4B3D-BB74-75FFA85E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C9D25-D556-4E69-9A50-FD5C0482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5C2B-6346-4E31-9396-FB7672A8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0234-6FCC-400F-AADC-9A9EA3DE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33A79-4E40-402F-B49E-806779E3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07A8-D2BD-4A42-AD56-82F18C40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C1EEC-C695-4126-97DB-29AACEB5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D42CD-2EF1-42AE-A355-0E92EA1A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01AFE-4538-439A-8900-DD85F27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404-0AFD-4F53-9608-D1FF605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051EE-5DE6-4DE3-8EB4-51AB5CCA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0DF3-4260-4BC4-839C-1320C0A6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6056-5F82-4D73-82AD-48891710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1194E-8982-4329-B539-87620DFB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187F8-D22F-4281-A12C-A4F2AA9A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4C60C-4689-4366-B7A0-E6F4ACC2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05C9-62C8-441F-916F-3BCF404D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E5E8E-7374-4F33-9208-F05134B2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1CBA2-DE51-4E8D-A388-8EB1C993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7284C-B3E6-4D98-8370-8C40C06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5DE-7EA0-486A-AB16-E888C7EB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FC499-F7E3-40A1-AE45-F985D8A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964F7-8605-4934-BF01-B83FAE2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4F327-82AA-4B23-A09D-07AD0B05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EB04E-75BD-466A-92AA-B3E63600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333E4-03F5-45F5-A888-63DADC49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5C9C8-7C22-4F8A-ADDD-A5AC4361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B8F7E-F5AF-42BF-8EEC-42BD0461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6A3E0-00F4-4E76-81CE-63702EEE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BDCDD-C39A-4EFE-A287-ADA4DF4B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AB282-2E5A-4B79-9C2D-FC22F7EF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ED9-8FB6-4932-8942-4C8A736E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E25C1-2E2E-4E07-9A8F-64C3CC6C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7AE8F-026B-4991-B657-B1558686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B1243-2AEE-4EF4-8EAA-B2BC7CA6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D9FD4-6C4B-43FF-8DCC-16CEA08F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E4309-93AB-44C3-A745-8981494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4DC76-72B6-462F-9C20-25ED8447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91397-F712-4192-902D-4517D8B0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7EC4-9EBA-424B-A201-C0F9AAAE802B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8572-70E7-4A1C-8E44-81AE26950552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ostokąt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ostokąt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8D55-D075-4A36-B5B6-FF30C7A24FC6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43E9-4379-45C9-B704-7C8472F3AB1E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FC93-2349-436D-A3F4-A7C919CAE466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rostokąt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rostokąt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334E-2076-41EC-A96B-5582DE9EBB17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ostokąt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rostokąt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F7C8-05B3-4E6A-A632-DF7A53EAD191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5C0-D70D-46D2-A60D-5C82F3AE6C39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390600" y="493560"/>
            <a:ext cx="80769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86640" cy="1262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Zapewnienie osobom doznającym przemocy bezpieczeństwa i profesjonalnej pomocy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Za przemoc zawsze odpowiedzialny jest sprawca przemocy, bez względu na to, co zrobiła ofiar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Nikt nie ma prawa stosować przemocy wobec drugiego człowiek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Nie ma żadnego uzasadnienia ani usprawiedliwienia przemocy domowej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Zrozumienie reakcji ofiary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Ofiara przemocy w rodzinie cierpi na skutek wielokrotnego urazu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Zrozumiałe i dopuszczalne są wahania i niekonsekwencje w zachowaniu i decyzjach, bowiem jest to jeden z objawów doznanego urazu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Podstawowym zadaniem jest zatrzymanie przemocy, bez tego pomoc jest nieskuteczn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285840" y="92160"/>
            <a:ext cx="8480160" cy="13222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upa 4"/>
          <p:cNvGrpSpPr/>
          <p:nvPr/>
        </p:nvGrpSpPr>
        <p:grpSpPr>
          <a:xfrm>
            <a:off x="533520" y="1774800"/>
            <a:ext cx="7772400" cy="4626000"/>
            <a:chOff x="533520" y="1774800"/>
            <a:chExt cx="7772400" cy="4626000"/>
          </a:xfrm>
        </p:grpSpPr>
        <p:sp>
          <p:nvSpPr>
            <p:cNvPr id="371" name="Trójkąt równoramienny 5"/>
            <p:cNvSpPr/>
            <p:nvPr/>
          </p:nvSpPr>
          <p:spPr>
            <a:xfrm>
              <a:off x="533520" y="1774800"/>
              <a:ext cx="5105520" cy="4626000"/>
            </a:xfrm>
            <a:prstGeom prst="triangle">
              <a:avLst>
                <a:gd name="adj" fmla="val 50000"/>
              </a:avLst>
            </a:prstGeom>
            <a:solidFill>
              <a:srgbClr val="f07f09"/>
            </a:solidFill>
            <a:ln w="47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Dowolny kształt 6"/>
            <p:cNvSpPr/>
            <p:nvPr/>
          </p:nvSpPr>
          <p:spPr>
            <a:xfrm>
              <a:off x="3913200" y="2238120"/>
              <a:ext cx="4392720" cy="822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478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74520" bIns="745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Opracowanie i realizacja powiatowego programu przeciwdziałania przemocy </a:t>
              </a:r>
              <a:br>
                <a:rPr sz="1200"/>
              </a:b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w rodzinie oraz ochrony ofiar przemocy w rodzinie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Dowolny kształt 7"/>
            <p:cNvSpPr/>
            <p:nvPr/>
          </p:nvSpPr>
          <p:spPr>
            <a:xfrm>
              <a:off x="3913200" y="3162240"/>
              <a:ext cx="4392720" cy="822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478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74520" bIns="745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Opracowanie i realizacja programów służących działaniom profilaktycznym mającym na celu udzielenie specjalistycznej pomocy, zwłaszcza w zakresie promowania i wdrożenia prawidłowych metod wychowawczych w stosunku do dzieci </a:t>
              </a:r>
              <a:br>
                <a:rPr sz="1200"/>
              </a:b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w rodzinach zagrożonych przemocą w rodzinie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Dowolny kształt 8"/>
            <p:cNvSpPr/>
            <p:nvPr/>
          </p:nvSpPr>
          <p:spPr>
            <a:xfrm>
              <a:off x="3913200" y="4087800"/>
              <a:ext cx="4392720" cy="822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478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74520" bIns="7452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Zapewnienie osobom dotkniętym przemocą w rodzinie miejsc </a:t>
              </a:r>
              <a:br>
                <a:rPr sz="1200"/>
              </a:b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w ośrodkach wsparcia</a:t>
              </a:r>
              <a:r>
                <a:rPr b="1" lang="pl-PL" sz="900" spc="-1" strike="noStrike">
                  <a:solidFill>
                    <a:srgbClr val="000000"/>
                  </a:solidFill>
                  <a:latin typeface="Corbel"/>
                </a:rPr>
                <a:t>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Dowolny kształt 9"/>
            <p:cNvSpPr/>
            <p:nvPr/>
          </p:nvSpPr>
          <p:spPr>
            <a:xfrm>
              <a:off x="3913200" y="5013360"/>
              <a:ext cx="4392720" cy="822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478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74520" bIns="745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Zapewnienie osobom dotkniętym przemocą w rodzinie miejsc </a:t>
              </a:r>
              <a:br>
                <a:rPr sz="1200"/>
              </a:b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w ośrodkach interwencji kryzysowej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pic>
        <p:nvPicPr>
          <p:cNvPr id="377" name="Symbol zastępczy zawartości 11" descr=""/>
          <p:cNvPicPr/>
          <p:nvPr/>
        </p:nvPicPr>
        <p:blipFill>
          <a:blip r:embed="rId2"/>
          <a:stretch/>
        </p:blipFill>
        <p:spPr>
          <a:xfrm>
            <a:off x="450720" y="1743120"/>
            <a:ext cx="8242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85840" y="92160"/>
            <a:ext cx="8407440" cy="1322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rbel"/>
              </a:rPr>
              <a:t>Lokalny system przeciwdziałania przemocy w rodzinie – </a:t>
            </a: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espół instytucji w środowisku lokalnym działających na rzecz zapobiegania i zwalczania przemocy, wraz z ich potencjałem   kadrowym, kompetencyjnym, wiedzą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i umiejętnościami, instrumentami pomocy i wsparcia, procedurami postępowania, zasobami rzeczowym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i finansowymi, wzajemnie ze sobą współpracujących w sposób skoordynowany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34552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Ograniczenie rozmiarów zjawiska przemocy w rodzinie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odniesienie skuteczności interwencji wobec problemu przemocy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zwój oferty pomocowej dla rodzin uwikłan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przemoc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Integracja działań instytucji wobec problemu przemo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rodzinie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zwój wiedzy, kompetencji, umiejętności reagowania wobec problemu przemocy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odniesienie poziomu świadomości społecznej na temat problemu przemocy w rodzini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m. i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Stworzenie sprawnego systemu pomocy rodzinom oraz osobom dotkniętym przemoc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zwój współpracy interdyscyplinarnej w przeciwdziałaniu krzywdzeniu</a:t>
            </a:r>
            <a:r>
              <a:rPr b="1" lang="pl-PL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osób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większenie efektywności pracy instytucji zajmujących się udzielaniem pomocy osobom pokrzywdzonym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miana postaw społecznych wobec zjawiska przemo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rodzini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pic>
        <p:nvPicPr>
          <p:cNvPr id="387" name="Symbol zastępczy zawartości 11" descr=""/>
          <p:cNvPicPr/>
          <p:nvPr/>
        </p:nvPicPr>
        <p:blipFill>
          <a:blip r:embed="rId2"/>
          <a:stretch/>
        </p:blipFill>
        <p:spPr>
          <a:xfrm>
            <a:off x="378000" y="1725480"/>
            <a:ext cx="82422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MOCNE STRO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Dobrze przygotowana i stale doskonaląca umiejętności kadra instytucji działających na rzecz rodziny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najomość problemu i dobrze działające służby zajmujące się profilaktyką i wsparciem rodzin zagrożonych patologiami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zwój poradnictwa dla osób uwikłanych w przemoc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oparcie działań i  współpraca  z  samorządem powiatowym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Działalność Punktu Interwencji Kryzysowej w Brzesk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SŁABE STRON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Niewystarczająca infrastruktura socjalna powiatu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Brak wypracowanych systemów wspomagania działań profilaktycznych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Brak spójnego systemu współpracy pomiędzy podmiotami działającymi na rzecz rodzin zagrożonych przemocą (prokuratura, policja, sądy, pomoc społeczna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Brak specjalistycznego ośrodka wsparcia dla ofiar przemocy w rodzinie</a:t>
            </a: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orbel"/>
              </a:rPr>
              <a:t>TO ZAMIERZONE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pl-PL" sz="3600" spc="-1" strike="noStrike">
                <a:solidFill>
                  <a:srgbClr val="000000"/>
                </a:solidFill>
                <a:latin typeface="Corbel"/>
              </a:rPr>
              <a:t>I WYKORZYSTUJĄCE PRZEWAGĘ SIŁ DZIAŁANIE PRZECIW CZŁONKOWI RODZINY, NARUSZAJĄCE PRAWA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orbel"/>
              </a:rPr>
              <a:t>I DOBRA OSOBISTE, POWODUJĄCE CIERPIENIE I SZKODY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AGROŻEN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Słaba kondycja ekonomiczna rodzi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Negatywne wzorce zachowań społecznych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Bezradność w sprawach opiekuńczo-wychowawczych rodzin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roblemy alkoholowe członków rodz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SZAN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snąca w społeczeństwie świadomość zagrożeń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ykształcona i stale doskonaląca swoje umiejętności kadra pracowników służb społecznych, policji, sądu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spółpraca z ośrodkami pomocy społecznej w realizacji zadań pomocy społecznej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ealizacja programów profilaktycznych umożliwiających rodzinie dotkniętej przemocą lub inną sytuacją kryzysową przezwyciężanie trudnośc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ytuł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8092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457200" y="17748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e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adania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liz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nowany termin real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kacja społeczna i promocja zachowań społecznych wolnych od prze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Opracowanie materiałów (ulotek, broszur, artykułów)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 temat zapobiegania,  sposoby reagowania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przemoc w rodzin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Rozwijanie edukacji i poradnictwa rodzinnego na rzecz przeciwdziałania przemocy w rodzin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Organizowanie  spotkań mających na celu zwrócenie uwagi dziec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młodzieży na problem przemo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iatowe Centrum Pomocy Rodzinie, Ośrodki Pomocy Społecznej,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zkoł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nia o charakterze ciągły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8092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457200" y="1774800"/>
          <a:ext cx="8229600" cy="4702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e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adania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liz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nowany termin real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89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spółpraca instytucji na rzecz zapobiegania 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zwalczania przemocy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odzi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Realizacja szkole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ń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la pracowników instytucji zaanga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ż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anych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zapobieg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zwalczanie przemo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Organizow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erenc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Powołanie Powiatowego Zespołu Interdyscyplinarnego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. przeciwdziałania przemocy domow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Cykliczne spotkania Powiatowego Zespołu  Interdyscyplinarnego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 Zespołami Gminny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iatowe Centrum Pomocy Rodzini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enda Powiatowa Poli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ejskie i Gminne Ośrodki Pomocy Społecznej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ratorzy Sądow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nia o charakterze ciągły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kwartał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nie o charakterze ciągły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8092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57200" y="1774800"/>
          <a:ext cx="8229600" cy="399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e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adania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liz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nowany termin real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35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c , wsparcie dla osób uwikłanych w przemoc w rodzi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Utworzenie grupy wsparcia dla ofiar przemocy domowej w PIK przy PC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Opracowanie i realizacja programów korekcyjno- edukacyjnych dla osó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suj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ą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h przem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Utworzenie specjalistycznej poradni wsparcia dla ofiar prze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K przy PCPR Brze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ostwo Powiatowe Brze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kwartał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kwartał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ytuł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8092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457200" y="1774800"/>
          <a:ext cx="8229600" cy="4473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e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adania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liz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nowany termin real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większanie skuteczno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ziel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cy rodzin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kni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ę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m przemoc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wi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ę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sz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teczno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ś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hrony of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emocy 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i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Realizacja szkole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nosząc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alifikac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zczególnych sł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ż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Tworzenie materiał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rukta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ż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ych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dur post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ę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bec wyst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ę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emocy w rodzi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kt Interwencji Kryzysowej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iatowe Centrum Pomocy Rodzinie, Gminne Ośrodki Pomocy Społecznej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ic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nia o charakterze ciągły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ytuł 1" descr=""/>
          <p:cNvPicPr/>
          <p:nvPr/>
        </p:nvPicPr>
        <p:blipFill>
          <a:blip r:embed="rId1"/>
          <a:stretch/>
        </p:blipFill>
        <p:spPr>
          <a:xfrm>
            <a:off x="317520" y="0"/>
            <a:ext cx="8375760" cy="14144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Źródłem finansowania programu będą środki własne powiatu brzeskiego oraz dotacje celowe - środki pozabudżetowe pozyskiwane z innych źróde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ogram będzie monitorowan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i ewaluowany corocznie w formie rocznego sprawozdani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ytuł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20040" cy="1262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Naczelnym celem programu jest redukcja zachowań agresywnych u jego uczestników, kształtowanie postawy partnerst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i szacunku wobec kobiet/mężczyzn oraz odpowiedzialności za popełnione czyny „przemocowe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ytuł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20040" cy="1262160"/>
          </a:xfrm>
          <a:prstGeom prst="rect">
            <a:avLst/>
          </a:prstGeom>
          <a:ln w="0">
            <a:noFill/>
          </a:ln>
        </p:spPr>
      </p:pic>
      <p:pic>
        <p:nvPicPr>
          <p:cNvPr id="409" name="Symbol zastępczy zawartości 3" descr=""/>
          <p:cNvPicPr/>
          <p:nvPr/>
        </p:nvPicPr>
        <p:blipFill>
          <a:blip r:embed="rId2"/>
          <a:stretch/>
        </p:blipFill>
        <p:spPr>
          <a:xfrm>
            <a:off x="365040" y="1768320"/>
            <a:ext cx="84312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ytuł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Ocena raz w roku przez PIK przy PCP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ogram jest dokumentem otwarty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Finansowanie programu PIK, PCPR,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środki powiatu środki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środki  z województw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I in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JEST INTENCJONALNA - Jest zamierzonym działaniem człowieka i ma na celu kontrolowanie i podporządkowanie ofiary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UTRUDNIA SAMOOBRONĘ Z UWAGI NA WYRAŹNĄ ASYMETRIĘ SIŁ - W relacji jedna ze stron ma przewagę nad drugą. Ofiara jest słabsza a sprawca silniejszy.</a:t>
            </a: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ytuł 1" descr=""/>
          <p:cNvPicPr/>
          <p:nvPr/>
        </p:nvPicPr>
        <p:blipFill>
          <a:blip r:embed="rId1"/>
          <a:stretch/>
        </p:blipFill>
        <p:spPr>
          <a:xfrm>
            <a:off x="225360" y="0"/>
            <a:ext cx="8747280" cy="14144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rbe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rbel"/>
              </a:rPr>
              <a:t>                        </a:t>
            </a:r>
            <a:r>
              <a:rPr b="0" lang="pl-PL" sz="4400" spc="-1" strike="noStrike">
                <a:solidFill>
                  <a:srgbClr val="000000"/>
                </a:solidFill>
                <a:latin typeface="Corbel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NARUSZA PRAWA I DOBRA OSOBISTE - Sprawca wykorzystuje przewagę siły narusza podstawowe prawa ofiary (np. prawo do nietykalności fizycznej, godności, szacunku itd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OWODUJE CIERPIENIE I SZKODY - Sprawca naraża zdrowie i życie ofiary na poważne szkody. Doświadczanie bólu i cierpienia sprawia, że ofiara ma mniejszą zdolność do samoobrony.</a:t>
            </a: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zemoc fizycz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zemoc psychicz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zemoc seksual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zemoc ekonomicz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Zaniedban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ytuł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ba Niebieskich Kart  sporządzona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z Policję w powiecie brzeski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09  - 12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10  - 5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ł. 2011 – 58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Symbol zastępczy zawartości 4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886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ytuł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ólna liczba zarejestrowanych postepowań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rzestępstwie znęcania sie nad członkiem rodziny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art 207 k.k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Rok 2009 - 11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Rok 2010 - 13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I poł. 2011 - 82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Symbol zastępczy zawartości 4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0384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ytuł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ólna liczba wszczętych  postępowań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rzestępstwie znęcania sie nad członkiem rodziny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art 207 k.k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09 - 4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10 - 6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ł. 2011 -33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Symbol zastępczy zawartości 4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ytuł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ólna liczba prawomocnie skazanych wyrokiem sądu z art 207 k.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09 – 2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10 - 2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ł. 2011 - 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Symbol zastępczy zawartości 4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40384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2-02-01T20:40:29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